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696-147B-4B61-A814-06A7B3EC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7B9-B5A7-468D-95BA-C8313017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BE1-5EAC-4202-BA62-B30B0069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D92-E72E-4810-B9FD-502C3E5E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D0C-D3B1-4E48-8F51-A91B40C7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CF5-7352-4DAA-B9A5-32159B18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DAC-46C1-4B1C-8F14-C7B7E8CD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474-87F1-4559-9A0E-6EFDBC51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892-40EB-4A87-8FB7-3699392D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13D-340C-4E29-8B51-BF216F31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488-DFFF-4CCC-9708-88FC2C88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56E-16BA-41A8-A57D-4397868B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70929-C6D2-4847-A75F-114B18F76B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4929E-3C48-4E9E-8ACD-1E4E183FE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How many protons does nitrogen (N) hav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977760"/>
            <a:ext cx="5548320" cy="56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2 electrons can fit in the first shel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8 electrons can fit in all the other shell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548320" y="1612800"/>
            <a:ext cx="359568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100" spc="-1" strike="noStrike" u="sng">
                <a:solidFill>
                  <a:srgbClr val="000000"/>
                </a:solidFill>
                <a:uFillTx/>
                <a:latin typeface="Calibri"/>
              </a:rPr>
              <a:t>The number of electrons in the outside shell is your number of valence electrons.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116532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What element is this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How many valence electrons does it hav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13081" t="0" r="0" b="0"/>
          <a:stretch/>
        </p:blipFill>
        <p:spPr>
          <a:xfrm>
            <a:off x="4711680" y="2768760"/>
            <a:ext cx="5232600" cy="4025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4711680" y="2882880"/>
            <a:ext cx="355680" cy="66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What element is this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How many valence electrons does it hav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927680" y="3263760"/>
            <a:ext cx="340344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Draw a Bohr model of Helium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How many valence electrons does it hav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Draw a Bohr model of Oxygen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How many valence electrons does it hav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Draw a Bohr model of Aluminum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How many valence electrons does it hav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it Slip – On your post-it not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do need your name on i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Draw a Bohr model of carbon (C)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How many valence electrons does carbon have?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w – coll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mework coll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am Na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s – How to draw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os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What is the symbol for radon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What is the atomic mass of cobalt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What is the atomic number of krypton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Which of the following facts about barium is incorrect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It’s symbol is Ba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It’s atomic number is 65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It’s atomic mass is 137.327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8.3 Boh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ohr models allow us to make a drawing that represents a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572000" y="932040"/>
            <a:ext cx="431784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411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irst – draw the nucleus of the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cond – draw the electrons in their sh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rcRect l="0" t="23703" r="0" b="0"/>
          <a:stretch/>
        </p:blipFill>
        <p:spPr>
          <a:xfrm>
            <a:off x="457200" y="3429000"/>
            <a:ext cx="2590920" cy="249408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10"/>
          <p:cNvCxnSpPr/>
          <p:nvPr/>
        </p:nvCxnSpPr>
        <p:spPr>
          <a:xfrm flipH="1" flipV="1">
            <a:off x="2019240" y="4607640"/>
            <a:ext cx="22611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TextBox 12"/>
          <p:cNvSpPr/>
          <p:nvPr/>
        </p:nvSpPr>
        <p:spPr>
          <a:xfrm>
            <a:off x="3143160" y="4038480"/>
            <a:ext cx="1790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Calibri"/>
              </a:rPr>
              <a:t>Nucleu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14"/>
          <p:cNvCxnSpPr/>
          <p:nvPr/>
        </p:nvCxnSpPr>
        <p:spPr>
          <a:xfrm flipH="1">
            <a:off x="1231200" y="2768400"/>
            <a:ext cx="788040" cy="965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16"/>
          <p:cNvCxnSpPr/>
          <p:nvPr/>
        </p:nvCxnSpPr>
        <p:spPr>
          <a:xfrm>
            <a:off x="2019240" y="2768760"/>
            <a:ext cx="293040" cy="1499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18"/>
          <p:cNvCxnSpPr/>
          <p:nvPr/>
        </p:nvCxnSpPr>
        <p:spPr>
          <a:xfrm flipH="1">
            <a:off x="1231200" y="2768760"/>
            <a:ext cx="788040" cy="2070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Straight Connector 20"/>
          <p:cNvSpPr/>
          <p:nvPr/>
        </p:nvSpPr>
        <p:spPr>
          <a:xfrm>
            <a:off x="2019240" y="2768760"/>
            <a:ext cx="2032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311560" y="2247840"/>
            <a:ext cx="173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0:05:05Z</dcterms:created>
  <dc:creator>Caroline Roth</dc:creator>
  <dc:description/>
  <dc:language>en-US</dc:language>
  <cp:lastModifiedBy>Caroline Roth</cp:lastModifiedBy>
  <dcterms:modified xsi:type="dcterms:W3CDTF">2011-03-25T10:58:39Z</dcterms:modified>
  <cp:revision>7</cp:revision>
  <dc:subject/>
  <dc:title>8.3 Bohr Models</dc:title>
</cp:coreProperties>
</file>